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5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EEDD3-0751-469F-BAD0-8BBA525AF4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65D0C-9FAB-4E0B-8373-E7B8BBA648B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EC65C-93E6-45F3-9B66-18C8E8074B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4BE9F-FAD5-4759-B96C-48AFA073555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2A396-9DF4-4A9C-91DB-63D31A4A6F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25EF9-8535-42B3-95A6-E4BD65DE067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36AF3-F032-4ED8-BFF6-81777E1BEE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850C-689F-4949-8A3F-FC47F4EC0E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FD5B-4A50-4D64-86CE-4BBE4515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335B-56C6-454B-ABE2-BBBFAB7E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838E-5DD6-4CF5-AB5C-E0439E1444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780B-460F-4536-9800-C8C27573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37C7-9CBA-4B90-9F9C-FF5A7188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5FF2-C560-40BA-A3BD-EF0A1FDC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4818-BAEC-48AD-97B2-08C2691A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3FC2-96B9-4741-84CE-D2F3AF4D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CF6A-5E27-4FFD-B1FD-C62BEA81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45BE-A627-40DA-A413-F75199AA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13DA-8D97-4107-9EC1-00C18F17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5F7818-FD9C-458F-81E5-00958C8D931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FORMACIÓN DE Y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2" descr=""/>
          <p:cNvPicPr/>
          <p:nvPr/>
        </p:nvPicPr>
        <p:blipFill>
          <a:blip r:embed="rId1"/>
          <a:stretch/>
        </p:blipFill>
        <p:spPr>
          <a:xfrm>
            <a:off x="6875640" y="1757520"/>
            <a:ext cx="1800000" cy="5100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84240" y="9036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y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971640" y="1413000"/>
            <a:ext cx="7272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chas plantas pueden generar nuevas plantas a partir de las yemas, que son unos grupos de célula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tegidos por una envoltura imperme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yemas pueden formarse en varios luga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00000" y="836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Formación de yemas o multiplicación vege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2610000" cy="3529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2771640" y="3716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interior de tallos subterráneos de tipo bulbo (por ejemplo, en las ceboll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148360" y="3068640"/>
            <a:ext cx="180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superficie de tallos subterráneos de tipo tubércul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or ejempl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s patat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398760" cy="3036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5027400" cy="24480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3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84240" y="9036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y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00000" y="836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Formación de yemas o multiplicación vege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3059280" y="1413000"/>
            <a:ext cx="30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tallos aére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or ejemplo, los estolone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s fres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3552840" cy="2665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1908000" y="3716280"/>
            <a:ext cx="25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tallos subterráneos tipo rizom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mo los liri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5508720" y="5229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base de las hojas (como los bulbil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04:27Z</dcterms:modified>
  <cp:revision>53</cp:revision>
  <dc:subject/>
  <dc:title>Diapositiva 1</dc:title>
</cp:coreProperties>
</file>